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734D42-B148-4746-99CC-04D2CB8C94D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815755-5291-4C8E-859A-2E87B72725C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opy list permette di eliminare dei nodi dai successori, se uguali a quelli presenti nella lista dei successori del reference node, i rimanenti vengono detti Extra n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i si comprimono le sequenze binarie mediante R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lista degli extra nodes viene ulteriormente compressa, identificando sequenze contigue di ID e si creano intervalli che vengono rappresentati come left,len-2; il left vene codificato come indicato all’inizio (perché può essere negativo) quando si tratta del primo intervallo; gli altri sono codificati come differenza dall’ultimo numero -2, perché altrimenti non ci sarebbe un gap tra due intervalli o tra l’intervallo corrente e un elemento preced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lli che rimangono come singleton, vengono detti residuals, il primo vene codificato rispetto alla source (sempre con la formula che permette di codifiare i negativi), gli altri come differenza rispetto al precedente residual -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4413C6-1865-45AE-AFFF-A946A15C470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2845C3-C3FF-4EDE-98ED-7154EC61162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69ECEC-C375-4DE2-976A-F29B1D1209E0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FD0F08-0844-4A0A-AB19-C52965A1D2A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15D734-DB1A-45B9-94FB-5332548F3B8C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5A92D6-00FF-4CB0-B33C-BD832723AF6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9BF-580C-46DA-B9D4-A8096E1D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3D3-02C7-4C1F-8D39-326EF526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CC2-C53B-498B-AF3C-E06F85AD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592-6C83-4F43-BAA6-97DF35AC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B40D-AEEF-463A-8E6D-10C26B81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037A-808C-40AE-8741-0E1DA0DF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948E-DFEE-4805-B9C4-82527634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9516-A564-4764-AD84-2B952EA4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C116-DAF7-4A1C-B5C6-D5901BD4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AF88-1FF2-45CD-8A01-8618D920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3C59-ADDC-4327-8058-200EACCF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088-A844-4665-B1EC-E0010A3D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37B8-4E24-46B1-92E5-4C0F05B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B784-0B10-4E17-B08A-DA06AB8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A1BA-D790-43D7-A4F9-4988D7C0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8E0F-2DFC-4B04-8A85-C15BD726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0AC9-E149-4131-86B2-CAF174E7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FEA-C04C-48EF-AED1-C4568D5D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57F-7BC1-4F1C-AE69-CC5BF3C5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6AB-AE5F-4CFB-8FA0-0793DF5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729-78FF-49A3-AF7A-0F454394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BCC-87BF-4A52-A08D-04E02C3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5C6-5346-4898-9A43-7DEBFA1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386-4A94-40C7-A3B8-90830676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9CE-667A-4E0E-B33E-AB06EC241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B234-C8A6-4BCB-8FDE-A6EDD866D895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hyperlink" Target="http://en.wikipedia.org/wiki/Bulk_synchronous_parallel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pen Source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utch (+ hadoop), also used by WikiSearc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nutch.apache.org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3803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ompressed stora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of the Web-graph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 &amp;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e In-degree distribu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8" name="Picture 3" descr="indeg_altav"/>
          <p:cNvPicPr/>
          <p:nvPr/>
        </p:nvPicPr>
        <p:blipFill>
          <a:blip r:embed="rId1"/>
          <a:stretch/>
        </p:blipFill>
        <p:spPr>
          <a:xfrm>
            <a:off x="468360" y="1844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indeg_webbase"/>
          <p:cNvPicPr/>
          <p:nvPr/>
        </p:nvPicPr>
        <p:blipFill>
          <a:blip r:embed="rId2"/>
          <a:stretch/>
        </p:blipFill>
        <p:spPr>
          <a:xfrm>
            <a:off x="4284720" y="1844640"/>
            <a:ext cx="4248000" cy="2691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116000" y="4581360"/>
            <a:ext cx="30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Altavista crawl, 1999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90200" y="4581360"/>
            <a:ext cx="24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WebBase Crawl 20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73920" y="539100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Indegree follows power law distribu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5194440" y="5300640"/>
                <a:ext cx="2935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in-degree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350040" y="5972040"/>
                <a:ext cx="8334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9"/>
          <p:cNvSpPr/>
          <p:nvPr/>
        </p:nvSpPr>
        <p:spPr>
          <a:xfrm>
            <a:off x="633600" y="6413400"/>
            <a:ext cx="65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This is true also for: out-degree, size of CC and SCC,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1752120"/>
            <a:ext cx="791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irected graph G = (V,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V = URLs, E = (u,v) if u has an hyperlink to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Isolated URLs are ignored (no IN, no OU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Lucida Sans"/>
              </a:rPr>
              <a:t>Three key properti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1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kewe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b that a node has x links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/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≈ 2.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oc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usually, most of the hyperlinks from URL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int to other URLs on the same host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bout 8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47560" indent="-457200" algn="just">
              <a:lnSpc>
                <a:spcPct val="126000"/>
              </a:lnSpc>
              <a:spcBef>
                <a:spcPts val="788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mila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f URL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close in lexicographic order, then they tend to share many hyperlin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Picture of the Web Graph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971640" y="1844640"/>
          <a:ext cx="5545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5545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2565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7164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07672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140360" y="5661000"/>
            <a:ext cx="43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illions of pages, 150millions of link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-sor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8" name="Picture 3" descr="A-spy"/>
          <p:cNvPicPr/>
          <p:nvPr/>
        </p:nvPicPr>
        <p:blipFill>
          <a:blip r:embed="rId1"/>
          <a:stretch/>
        </p:blipFill>
        <p:spPr>
          <a:xfrm>
            <a:off x="1720800" y="1752480"/>
            <a:ext cx="5702400" cy="487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7737840" y="32702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6981840" y="3676680"/>
            <a:ext cx="1085760" cy="81900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84" h="516">
                <a:moveTo>
                  <a:pt x="684" y="0"/>
                </a:moveTo>
                <a:cubicBezTo>
                  <a:pt x="476" y="130"/>
                  <a:pt x="268" y="261"/>
                  <a:pt x="210" y="342"/>
                </a:cubicBezTo>
                <a:cubicBezTo>
                  <a:pt x="152" y="423"/>
                  <a:pt x="371" y="457"/>
                  <a:pt x="336" y="486"/>
                </a:cubicBezTo>
                <a:cubicBezTo>
                  <a:pt x="301" y="515"/>
                  <a:pt x="60" y="512"/>
                  <a:pt x="0" y="5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0" y="2286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1647720" y="2066760"/>
            <a:ext cx="781200" cy="466920"/>
          </a:xfrm>
          <a:custGeom>
            <a:avLst/>
            <a:gdLst>
              <a:gd name="textAreaLeft" fmla="*/ 0 w 781200"/>
              <a:gd name="textAreaRight" fmla="*/ 781560 w 7812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92" h="294">
                <a:moveTo>
                  <a:pt x="0" y="294"/>
                </a:moveTo>
                <a:cubicBezTo>
                  <a:pt x="109" y="271"/>
                  <a:pt x="219" y="249"/>
                  <a:pt x="228" y="210"/>
                </a:cubicBezTo>
                <a:cubicBezTo>
                  <a:pt x="237" y="171"/>
                  <a:pt x="10" y="95"/>
                  <a:pt x="54" y="60"/>
                </a:cubicBezTo>
                <a:cubicBezTo>
                  <a:pt x="98" y="25"/>
                  <a:pt x="295" y="12"/>
                  <a:pt x="4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Copy-lists: Similarity &amp; Loca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740120" cy="16732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82440" y="194508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compressed adjacency lis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3600" y="5356080"/>
            <a:ext cx="8529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ch bit of the copy-list informs whether the corresponding successor of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is also a successor of the reference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ference index is the one in [0,W] that gives the best compressio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2965320" y="3435480"/>
            <a:ext cx="5965920" cy="1773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119160" y="3837960"/>
            <a:ext cx="2819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40508"/>
                </a:solidFill>
                <a:latin typeface="Arial"/>
              </a:rPr>
              <a:t>(similarity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5722920" y="115920"/>
            <a:ext cx="3313080" cy="747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eference copy-b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re small (e.g. ≤8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Copy-blocks = RLE(Copy-list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965320" y="1557360"/>
            <a:ext cx="5965920" cy="1773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19160" y="2170440"/>
            <a:ext cx="281916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list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79280" y="5373720"/>
            <a:ext cx="838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first bit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pecifies the first copy block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ach RLE-length is decremented by one for all block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100" spc="-1" strike="noStrike">
                <a:solidFill>
                  <a:srgbClr val="993366"/>
                </a:solidFill>
                <a:latin typeface="Arial"/>
              </a:rPr>
              <a:t>last block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is omitted (we know the length from </a:t>
            </a:r>
            <a:r>
              <a:rPr b="0" i="1" lang="en-GB" sz="2100" spc="-1" strike="noStrike">
                <a:solidFill>
                  <a:srgbClr val="ff0000"/>
                </a:solidFill>
                <a:latin typeface="Arial"/>
              </a:rPr>
              <a:t>Out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2771640" y="3487680"/>
            <a:ext cx="6193080" cy="1741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23760" y="3592800"/>
            <a:ext cx="2819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(RLE on bit sequenc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5008680" y="4154400"/>
            <a:ext cx="207720" cy="282600"/>
          </a:xfrm>
          <a:prstGeom prst="ellipse">
            <a:avLst/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4859280" y="2276640"/>
            <a:ext cx="217440" cy="288720"/>
          </a:xfrm>
          <a:custGeom>
            <a:avLst/>
            <a:gdLst>
              <a:gd name="textAreaLeft" fmla="*/ 360 w 217440"/>
              <a:gd name="textAreaRight" fmla="*/ 217080 w 21744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28669">
                <a:moveTo>
                  <a:pt x="177" y="0"/>
                </a:moveTo>
                <a:arcTo wR="177" hR="177" stAng="16200000" swAng="-5400000"/>
                <a:lnTo>
                  <a:pt x="0" y="28492"/>
                </a:lnTo>
                <a:arcTo wR="177" hR="177" stAng="10800000" swAng="-5400000"/>
                <a:lnTo>
                  <a:pt x="21423" y="2866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5219640" y="2276640"/>
            <a:ext cx="179280" cy="28872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288720"/>
              <a:gd name="textAreaBottom" fmla="*/ 288360 h 288720"/>
            </a:gdLst>
            <a:ahLst/>
            <a:rect l="textAreaLeft" t="textAreaTop" r="textAreaRight" b="textAreaBottom"/>
            <a:pathLst>
              <a:path w="21600" h="34759">
                <a:moveTo>
                  <a:pt x="177" y="0"/>
                </a:moveTo>
                <a:arcTo wR="177" hR="177" stAng="16200000" swAng="-5400000"/>
                <a:lnTo>
                  <a:pt x="0" y="34582"/>
                </a:lnTo>
                <a:arcTo wR="177" hR="177" stAng="10800000" swAng="-5400000"/>
                <a:lnTo>
                  <a:pt x="21423" y="34759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5653080" y="4149720"/>
            <a:ext cx="142920" cy="287280"/>
          </a:xfrm>
          <a:custGeom>
            <a:avLst/>
            <a:gdLst/>
            <a:ahLst/>
            <a:rect l="l" t="t" r="r" b="b"/>
            <a:pathLst>
              <a:path w="21600" h="43363">
                <a:moveTo>
                  <a:pt x="177" y="0"/>
                </a:moveTo>
                <a:arcTo wR="177" hR="177" stAng="16200000" swAng="-5400000"/>
                <a:lnTo>
                  <a:pt x="0" y="43186"/>
                </a:lnTo>
                <a:arcTo wR="177" hR="177" stAng="10800000" swAng="-5400000"/>
                <a:lnTo>
                  <a:pt x="21423" y="43363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5329080" y="4149720"/>
            <a:ext cx="179640" cy="287280"/>
          </a:xfrm>
          <a:custGeom>
            <a:avLst/>
            <a:gdLst>
              <a:gd name="textAreaLeft" fmla="*/ 360 w 179640"/>
              <a:gd name="textAreaRight" fmla="*/ 179280 w 17964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34517">
                <a:moveTo>
                  <a:pt x="177" y="0"/>
                </a:moveTo>
                <a:arcTo wR="177" hR="177" stAng="16200000" swAng="-5400000"/>
                <a:lnTo>
                  <a:pt x="0" y="34340"/>
                </a:lnTo>
                <a:arcTo wR="177" hR="177" stAng="10800000" swAng="-5400000"/>
                <a:lnTo>
                  <a:pt x="21423" y="34517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4643280" y="1557360"/>
            <a:ext cx="108108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003640" y="3500280"/>
            <a:ext cx="1152720" cy="1800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5055840" y="4560840"/>
            <a:ext cx="39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Rettangolo arrotondato 1"/>
          <p:cNvSpPr/>
          <p:nvPr/>
        </p:nvSpPr>
        <p:spPr>
          <a:xfrm>
            <a:off x="6948360" y="5805360"/>
            <a:ext cx="2195640" cy="100836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re on extr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des, but not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here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Rettangolo 2"/>
          <p:cNvSpPr/>
          <p:nvPr/>
        </p:nvSpPr>
        <p:spPr>
          <a:xfrm>
            <a:off x="4284720" y="4629240"/>
            <a:ext cx="1429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San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AutoShape 19"/>
          <p:cNvSpPr/>
          <p:nvPr/>
        </p:nvSpPr>
        <p:spPr>
          <a:xfrm>
            <a:off x="4788000" y="0"/>
            <a:ext cx="435600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Called WebGraph ≈3 bits/ed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7"/>
          <p:cNvGrpSpPr/>
          <p:nvPr/>
        </p:nvGrpSpPr>
        <p:grpSpPr>
          <a:xfrm>
            <a:off x="1805040" y="3382920"/>
            <a:ext cx="7338960" cy="1054080"/>
            <a:chOff x="1805040" y="3382920"/>
            <a:chExt cx="7338960" cy="1054080"/>
          </a:xfrm>
        </p:grpSpPr>
        <p:pic>
          <p:nvPicPr>
            <p:cNvPr id="210" name="Picture 6" descr=""/>
            <p:cNvPicPr/>
            <p:nvPr/>
          </p:nvPicPr>
          <p:blipFill>
            <a:blip r:embed="rId1"/>
            <a:srcRect l="0" t="0" r="0" b="32384"/>
            <a:stretch/>
          </p:blipFill>
          <p:spPr>
            <a:xfrm>
              <a:off x="1805040" y="3382920"/>
              <a:ext cx="73389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26"/>
            <p:cNvSpPr/>
            <p:nvPr/>
          </p:nvSpPr>
          <p:spPr>
            <a:xfrm>
              <a:off x="8028000" y="3789360"/>
              <a:ext cx="10800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569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Extra-nodes:</a:t>
            </a:r>
            <a:r>
              <a:rPr b="0" lang="it-IT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Intervals and Residua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9631440" y="8310960"/>
            <a:ext cx="542880" cy="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rcRect l="0" t="0" r="0" b="34870"/>
          <a:stretch/>
        </p:blipFill>
        <p:spPr>
          <a:xfrm>
            <a:off x="2771640" y="1557360"/>
            <a:ext cx="6193080" cy="1150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-58680" y="1859400"/>
            <a:ext cx="2819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jacency list with copy blocks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0" y="3650400"/>
            <a:ext cx="179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40508"/>
                </a:solidFill>
                <a:latin typeface="Arial"/>
              </a:rPr>
              <a:t>Consecutiv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xtra-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6291360" y="399096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508720" y="5070240"/>
            <a:ext cx="3671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Arial"/>
              </a:rPr>
              <a:t>0 = (15-15)*2   </a:t>
            </a:r>
            <a:r>
              <a:rPr b="0" i="1" lang="en-GB" sz="1600" spc="-1" strike="noStrike">
                <a:solidFill>
                  <a:srgbClr val="008000"/>
                </a:solidFill>
                <a:latin typeface="Arial"/>
              </a:rPr>
              <a:t>(positiv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2 = (23-19)-2   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(jump &gt;= 2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77777"/>
                </a:solidFill>
                <a:latin typeface="Arial"/>
              </a:rPr>
              <a:t>600 = (316-16)*2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Arial"/>
              </a:rPr>
              <a:t>12 = (22-16)*2  </a:t>
            </a:r>
            <a:r>
              <a:rPr b="0" i="1" lang="en-GB" sz="1800" spc="-1" strike="noStrike">
                <a:solidFill>
                  <a:srgbClr val="ff00ff"/>
                </a:solidFill>
                <a:latin typeface="Arial"/>
              </a:rPr>
              <a:t>(positiv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76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3018 = 3041-22-1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differenc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6253200" y="3792600"/>
            <a:ext cx="255600" cy="280800"/>
            <a:chOff x="6253200" y="3792600"/>
            <a:chExt cx="255600" cy="280800"/>
          </a:xfrm>
        </p:grpSpPr>
        <p:sp>
          <p:nvSpPr>
            <p:cNvPr id="220" name="Oval 11"/>
            <p:cNvSpPr/>
            <p:nvPr/>
          </p:nvSpPr>
          <p:spPr>
            <a:xfrm>
              <a:off x="6253200" y="3792600"/>
              <a:ext cx="255600" cy="28080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245440" y="4008600"/>
            <a:ext cx="430200" cy="280800"/>
            <a:chOff x="8245440" y="4008600"/>
            <a:chExt cx="430200" cy="280800"/>
          </a:xfrm>
        </p:grpSpPr>
        <p:sp>
          <p:nvSpPr>
            <p:cNvPr id="222" name="Oval 15"/>
            <p:cNvSpPr/>
            <p:nvPr/>
          </p:nvSpPr>
          <p:spPr>
            <a:xfrm>
              <a:off x="8245440" y="4008600"/>
              <a:ext cx="430200" cy="28080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23" name="Rectangle 16"/>
          <p:cNvSpPr/>
          <p:nvPr/>
        </p:nvSpPr>
        <p:spPr>
          <a:xfrm>
            <a:off x="0" y="5084640"/>
            <a:ext cx="8631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51000" indent="-336600" algn="just">
              <a:lnSpc>
                <a:spcPct val="96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erv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encoded by left extreme and length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Int. length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decremented by L</a:t>
            </a:r>
            <a:r>
              <a:rPr b="0" lang="en-GB" sz="2100" spc="-1" strike="noStrike" baseline="-33000">
                <a:solidFill>
                  <a:srgbClr val="000000"/>
                </a:solidFill>
                <a:latin typeface="Arial"/>
              </a:rPr>
              <a:t>mi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ff"/>
                </a:solidFill>
                <a:latin typeface="Arial"/>
              </a:rPr>
              <a:t>Residu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differences between residuals,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51000" indent="-336600" algn="just">
              <a:lnSpc>
                <a:spcPct val="60000"/>
              </a:lnSpc>
              <a:spcBef>
                <a:spcPts val="788"/>
              </a:spcBef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 the source (the first)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6156360" y="1557360"/>
            <a:ext cx="2808360" cy="120348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5364000" y="3392640"/>
            <a:ext cx="3780000" cy="1044360"/>
          </a:xfrm>
          <a:prstGeom prst="rect">
            <a:avLst/>
          </a:prstGeom>
          <a:noFill/>
          <a:ln w="73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AutoShape 19"/>
          <p:cNvSpPr/>
          <p:nvPr/>
        </p:nvSpPr>
        <p:spPr>
          <a:xfrm>
            <a:off x="5867280" y="0"/>
            <a:ext cx="3276720" cy="692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his is a Java and C++ 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"/>
              </a:rPr>
              <a:t>(≈3 bits/ed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27" name="Group 20"/>
          <p:cNvGrpSpPr/>
          <p:nvPr/>
        </p:nvGrpSpPr>
        <p:grpSpPr>
          <a:xfrm>
            <a:off x="6469200" y="3789360"/>
            <a:ext cx="255600" cy="281160"/>
            <a:chOff x="6469200" y="3789360"/>
            <a:chExt cx="255600" cy="281160"/>
          </a:xfrm>
        </p:grpSpPr>
        <p:sp>
          <p:nvSpPr>
            <p:cNvPr id="228" name="Oval 21"/>
            <p:cNvSpPr/>
            <p:nvPr/>
          </p:nvSpPr>
          <p:spPr>
            <a:xfrm>
              <a:off x="6469200" y="378936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29" name="Group 22"/>
          <p:cNvGrpSpPr/>
          <p:nvPr/>
        </p:nvGrpSpPr>
        <p:grpSpPr>
          <a:xfrm>
            <a:off x="6404040" y="1995480"/>
            <a:ext cx="255600" cy="281160"/>
            <a:chOff x="6404040" y="1995480"/>
            <a:chExt cx="255600" cy="281160"/>
          </a:xfrm>
        </p:grpSpPr>
        <p:sp>
          <p:nvSpPr>
            <p:cNvPr id="230" name="Oval 23"/>
            <p:cNvSpPr/>
            <p:nvPr/>
          </p:nvSpPr>
          <p:spPr>
            <a:xfrm>
              <a:off x="640404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5c85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1" name="Group 24"/>
          <p:cNvGrpSpPr/>
          <p:nvPr/>
        </p:nvGrpSpPr>
        <p:grpSpPr>
          <a:xfrm>
            <a:off x="7524720" y="1995480"/>
            <a:ext cx="255600" cy="281160"/>
            <a:chOff x="7524720" y="1995480"/>
            <a:chExt cx="255600" cy="281160"/>
          </a:xfrm>
        </p:grpSpPr>
        <p:sp>
          <p:nvSpPr>
            <p:cNvPr id="232" name="Oval 25"/>
            <p:cNvSpPr/>
            <p:nvPr/>
          </p:nvSpPr>
          <p:spPr>
            <a:xfrm>
              <a:off x="7524720" y="1995480"/>
              <a:ext cx="255600" cy="281160"/>
            </a:xfrm>
            <a:prstGeom prst="ellipse">
              <a:avLst/>
            </a:prstGeom>
            <a:noFill/>
            <a:ln w="36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8005680" y="4011480"/>
            <a:ext cx="166680" cy="281160"/>
            <a:chOff x="8005680" y="4011480"/>
            <a:chExt cx="166680" cy="281160"/>
          </a:xfrm>
        </p:grpSpPr>
        <p:sp>
          <p:nvSpPr>
            <p:cNvPr id="234" name="Oval 13"/>
            <p:cNvSpPr/>
            <p:nvPr/>
          </p:nvSpPr>
          <p:spPr>
            <a:xfrm>
              <a:off x="8005680" y="4011480"/>
              <a:ext cx="166680" cy="281160"/>
            </a:xfrm>
            <a:prstGeom prst="ellipse">
              <a:avLst/>
            </a:prstGeom>
            <a:noFill/>
            <a:ln w="36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35" name="Oval 8"/>
          <p:cNvSpPr/>
          <p:nvPr/>
        </p:nvSpPr>
        <p:spPr>
          <a:xfrm>
            <a:off x="6372360" y="2209680"/>
            <a:ext cx="344520" cy="282600"/>
          </a:xfrm>
          <a:prstGeom prst="ellipse">
            <a:avLst/>
          </a:prstGeom>
          <a:noFill/>
          <a:ln w="360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mall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i.stack.imgur.com/1j5IO.jpg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95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26d4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00" name="Straight Arrow Connector 13"/>
          <p:cNvCxnSpPr>
            <a:stCxn id="97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101" name="Straight Arrow Connector 14"/>
          <p:cNvCxnSpPr>
            <a:stCxn id="96" idx="4"/>
            <a:endCxn id="99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102" name="Straight Arrow Connector 12"/>
          <p:cNvCxnSpPr>
            <a:stCxn id="97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103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Rettangolo arrotondato 1"/>
          <p:cNvSpPr/>
          <p:nvPr/>
        </p:nvSpPr>
        <p:spPr>
          <a:xfrm>
            <a:off x="6588000" y="2349360"/>
            <a:ext cx="144000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6732720" y="5227560"/>
            <a:ext cx="1083960" cy="50508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What about other graphs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7918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>
              <a:spcBef>
                <a:spcPts val="601"/>
              </a:spcBef>
              <a:buNone/>
              <a:tabLst>
                <a:tab algn="l" pos="0"/>
                <a:tab algn="l" pos="90360"/>
                <a:tab algn="l" pos="1004760"/>
                <a:tab algn="l" pos="1919160"/>
                <a:tab algn="l" pos="2833560"/>
                <a:tab algn="l" pos="3747960"/>
                <a:tab algn="l" pos="4662360"/>
                <a:tab algn="l" pos="5576760"/>
                <a:tab algn="l" pos="6491160"/>
                <a:tab algn="l" pos="7405560"/>
                <a:tab algn="l" pos="8319960"/>
                <a:tab algn="l" pos="9234360"/>
                <a:tab algn="l" pos="101487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A directed graph G = (V,E) not necessarily satisfy Web properties abov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8" name="Picture 2" descr="https://upload.wikimedia.org/wikipedia/commons/thumb/3/3a/GraphDatabase_PropertyGraph.png/308px-GraphDatabase_PropertyGraph.png"/>
          <p:cNvPicPr/>
          <p:nvPr/>
        </p:nvPicPr>
        <p:blipFill>
          <a:blip r:embed="rId1"/>
          <a:stretch/>
        </p:blipFill>
        <p:spPr>
          <a:xfrm>
            <a:off x="5216400" y="2349360"/>
            <a:ext cx="3865680" cy="2735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Neo4j.jpg"/>
          <p:cNvPicPr/>
          <p:nvPr/>
        </p:nvPicPr>
        <p:blipFill>
          <a:blip r:embed="rId2"/>
          <a:stretch/>
        </p:blipFill>
        <p:spPr>
          <a:xfrm>
            <a:off x="662040" y="3249720"/>
            <a:ext cx="419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po 5"/>
          <p:cNvGrpSpPr/>
          <p:nvPr/>
        </p:nvGrpSpPr>
        <p:grpSpPr>
          <a:xfrm>
            <a:off x="216000" y="4797360"/>
            <a:ext cx="6588000" cy="2073240"/>
            <a:chOff x="216000" y="4797360"/>
            <a:chExt cx="6588000" cy="2073240"/>
          </a:xfrm>
        </p:grpSpPr>
        <p:sp>
          <p:nvSpPr>
            <p:cNvPr id="241" name="Rettangolo 3"/>
            <p:cNvSpPr/>
            <p:nvPr/>
          </p:nvSpPr>
          <p:spPr>
            <a:xfrm>
              <a:off x="1908000" y="4797360"/>
              <a:ext cx="489600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Apache Giraph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is an iterative graph processing system built for high scalability. It is currently used at Facebook. Giraph originated as the open-source counterpart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Lucida Sans"/>
                </a:rPr>
                <a:t>Preg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, the graph processing architecture developed at Google (2010). Both systems are inspired by the </a:t>
              </a:r>
              <a:r>
                <a:rPr b="0" lang="en-US" sz="1600" spc="-1" strike="noStrike" u="sng">
                  <a:solidFill>
                    <a:srgbClr val="ff0000"/>
                  </a:solidFill>
                  <a:uFillTx/>
                  <a:latin typeface="Lucida Sans"/>
                  <a:hlinkClick r:id="rId3"/>
                </a:rPr>
                <a:t>Bulk Synchronous Parallel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 model of distributed computation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242" name="Immagine 4" descr=""/>
            <p:cNvPicPr/>
            <p:nvPr/>
          </p:nvPicPr>
          <p:blipFill>
            <a:blip r:embed="rId4"/>
            <a:srcRect l="532" t="10518" r="80154" b="48107"/>
            <a:stretch/>
          </p:blipFill>
          <p:spPr>
            <a:xfrm>
              <a:off x="216000" y="4797360"/>
              <a:ext cx="1588320" cy="191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This page is a new one 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Check if the page has been parsed/downloaded befo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uplicate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ear-duplicate match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Lucida Sans"/>
              </a:rPr>
              <a:t>URL match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-274320">
              <a:lnSpc>
                <a:spcPct val="80000"/>
              </a:lnSpc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Some solution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ashing on UR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5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fter 50 bln pages, we have 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en</a:t>
            </a:r>
            <a:r>
              <a:rPr b="0" lang="ja-JP" sz="1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over 500 bln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ach URL is at least 1000 bytes on aver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Lucida Sans"/>
              </a:rPr>
              <a:t>Overall we have about 500.000 Tb (=500 Pb) for just the URL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sk access with caching  (e.g. Altavi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per URL check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&gt; 5 ms * 5 * 1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URL-checks =&gt; 8000 years/1PC =&gt; 30gg/10</a:t>
            </a:r>
            <a:r>
              <a:rPr b="0" lang="en-US" sz="1600" spc="-1" strike="noStrike" baseline="38000">
                <a:solidFill>
                  <a:srgbClr val="000000"/>
                </a:solidFill>
                <a:latin typeface="Lucida Sans"/>
              </a:rPr>
              <a:t>5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5943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loom Filter (Archiv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indent="-1828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50 bln URL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 about 50 Tb   </a:t>
            </a:r>
            <a:r>
              <a:rPr b="0" i="1" lang="en-US" sz="1600" spc="-1" strike="noStrike">
                <a:solidFill>
                  <a:srgbClr val="333399"/>
                </a:solidFill>
                <a:latin typeface="Lucida Sans"/>
              </a:rPr>
              <a:t>[cfr. 1/1000 hashing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Is the page new?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[Bloom Filter, 1970]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7521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reate a binary array B[1,m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ider a family of k hash functions that map a key (URL) to a position (integer) i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0" name="Picture 2" descr="https://upload.wikimedia.org/wikipedia/commons/thumb/a/ac/Bloom_filter.svg/649px-Bloom_filter.svg.png"/>
          <p:cNvPicPr/>
          <p:nvPr/>
        </p:nvPicPr>
        <p:blipFill>
          <a:blip r:embed="rId1"/>
          <a:srcRect l="0" t="45726" r="0" b="0"/>
          <a:stretch/>
        </p:blipFill>
        <p:spPr>
          <a:xfrm>
            <a:off x="1187280" y="4365720"/>
            <a:ext cx="6181920" cy="1204920"/>
          </a:xfrm>
          <a:prstGeom prst="rect">
            <a:avLst/>
          </a:prstGeom>
          <a:ln w="0">
            <a:noFill/>
          </a:ln>
        </p:spPr>
      </p:pic>
      <p:sp>
        <p:nvSpPr>
          <p:cNvPr id="111" name="Rounded Rectangle 7"/>
          <p:cNvSpPr/>
          <p:nvPr/>
        </p:nvSpPr>
        <p:spPr>
          <a:xfrm>
            <a:off x="34920" y="6021360"/>
            <a:ext cx="6121440" cy="792360"/>
          </a:xfrm>
          <a:prstGeom prst="roundRect">
            <a:avLst>
              <a:gd name="adj" fmla="val 16667"/>
            </a:avLst>
          </a:prstGeom>
          <a:solidFill>
            <a:srgbClr val="007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Pro: No need to store keys, less comple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≈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*X bln bits in array </a:t>
            </a:r>
            <a:r>
              <a:rPr b="0" i="1" lang="it-IT" sz="2000" spc="-1" strike="noStrike">
                <a:solidFill>
                  <a:srgbClr val="ffffff"/>
                </a:solidFill>
                <a:latin typeface="Lucida Sans"/>
              </a:rPr>
              <a:t>versus </a:t>
            </a: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50.000 bln cha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Rounded Rectangle 6"/>
          <p:cNvSpPr/>
          <p:nvPr/>
        </p:nvSpPr>
        <p:spPr>
          <a:xfrm>
            <a:off x="6300720" y="6021360"/>
            <a:ext cx="2808360" cy="792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Cons: false posi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CasellaDiTesto 1"/>
          <p:cNvSpPr/>
          <p:nvPr/>
        </p:nvSpPr>
        <p:spPr>
          <a:xfrm>
            <a:off x="642240" y="420228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CasellaDiTesto 2"/>
          <p:cNvSpPr/>
          <p:nvPr/>
        </p:nvSpPr>
        <p:spPr>
          <a:xfrm>
            <a:off x="6353280" y="4294080"/>
            <a:ext cx="296640" cy="33732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Lucida San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CasellaDiTesto 9"/>
          <p:cNvSpPr/>
          <p:nvPr/>
        </p:nvSpPr>
        <p:spPr>
          <a:xfrm>
            <a:off x="6062040" y="489888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k=3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75440" y="3214800"/>
            <a:ext cx="539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429680" y="3176640"/>
            <a:ext cx="323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929280" y="2928960"/>
            <a:ext cx="285840" cy="285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7429680" y="3929040"/>
            <a:ext cx="285480" cy="3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6929280" y="2357280"/>
            <a:ext cx="28584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786040" y="2571840"/>
            <a:ext cx="278604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52916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29" name="Rettangolo 5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928800" y="4508640"/>
            <a:ext cx="407484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74840" y="5310360"/>
            <a:ext cx="8001000" cy="10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Rounded Rectangle 5"/>
          <p:cNvSpPr/>
          <p:nvPr/>
        </p:nvSpPr>
        <p:spPr>
          <a:xfrm>
            <a:off x="108000" y="5541840"/>
            <a:ext cx="676908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inimize prob. error for k = (m/n) ln 2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Rettangolo arrotondato 1"/>
          <p:cNvSpPr/>
          <p:nvPr/>
        </p:nvSpPr>
        <p:spPr>
          <a:xfrm>
            <a:off x="6516720" y="1752480"/>
            <a:ext cx="2448000" cy="1316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m/n = 30 b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= 4 * 10</a:t>
            </a:r>
            <a:r>
              <a:rPr b="0" lang="it-IT" sz="2400" spc="-1" strike="noStrike" baseline="42000">
                <a:solidFill>
                  <a:srgbClr val="ffffff"/>
                </a:solidFill>
                <a:latin typeface="Lucida Sans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003640" y="4508640"/>
            <a:ext cx="407520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88000" y="4437000"/>
            <a:ext cx="39258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Lucida Sans"/>
              </a:rPr>
              <a:t>= 0.62</a:t>
            </a:r>
            <a:r>
              <a:rPr b="0" lang="it-IT" sz="2400" spc="-1" strike="noStrike" baseline="44000">
                <a:solidFill>
                  <a:srgbClr val="ff0000"/>
                </a:solidFill>
                <a:latin typeface="Lucida Sans"/>
              </a:rPr>
              <a:t>m/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rcRect l="38189" t="43700" r="37401" b="27952"/>
          <a:stretch/>
        </p:blipFill>
        <p:spPr>
          <a:xfrm>
            <a:off x="6929280" y="4551480"/>
            <a:ext cx="2232360" cy="1942920"/>
          </a:xfrm>
          <a:prstGeom prst="rect">
            <a:avLst/>
          </a:prstGeom>
          <a:ln w="0">
            <a:noFill/>
          </a:ln>
        </p:spPr>
      </p:pic>
      <p:sp>
        <p:nvSpPr>
          <p:cNvPr id="137" name="Rounded Rectangle 5"/>
          <p:cNvSpPr/>
          <p:nvPr/>
        </p:nvSpPr>
        <p:spPr>
          <a:xfrm>
            <a:off x="179280" y="6381720"/>
            <a:ext cx="856944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dvantageous when (m/n) 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« (key-length in bits + log 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arallel Crawler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b is too big to be crawled by a single crawler, work should be divided </a:t>
            </a:r>
            <a:r>
              <a:rPr b="1" lang="en-US" sz="2200" spc="-1" strike="noStrike">
                <a:solidFill>
                  <a:srgbClr val="ff0000"/>
                </a:solidFill>
                <a:latin typeface="Lucida Sans"/>
              </a:rPr>
              <a:t>avoiding duplicatio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Dynam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entral coordinator dynamically assigns URLs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t needs communication bwt coordinator/crawl threa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Static assignmen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Web is statically partitioned and assigned to crawl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rawler only crawls its part of the web,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no need of coordinator and thus commun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wo problems with static assignmen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Load balancing the #URLs assigned to crawler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tatic schemes based on hosts may fai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geocities.com/…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www.di.unipi.it/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ynamic 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ocation</a:t>
            </a:r>
            <a:r>
              <a:rPr b="0" i="1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 schemes may be complic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Managing the fault-toleranc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the death of downloaders ? 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-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hat about new downloaders ? D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+1, </a:t>
            </a:r>
            <a:r>
              <a:rPr b="1" i="1" lang="en-US" sz="2000" spc="-1" strike="noStrike">
                <a:solidFill>
                  <a:srgbClr val="7030a0"/>
                </a:solidFill>
                <a:latin typeface="Lucida Sans"/>
              </a:rPr>
              <a:t>new hash !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7451640" y="2276640"/>
            <a:ext cx="2643120" cy="273492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734920"/>
              <a:gd name="textAreaBottom" fmla="*/ 2606040 h 2734920"/>
            </a:gdLst>
            <a:ahLst/>
            <a:rect l="textAreaLeft" t="textAreaTop" r="textAreaRight" b="textAreaBottom"/>
            <a:pathLst>
              <a:path w="21600" h="22350">
                <a:moveTo>
                  <a:pt x="3600" y="0"/>
                </a:moveTo>
                <a:arcTo wR="3600" hR="3600" stAng="16200000" swAng="-5400000"/>
                <a:lnTo>
                  <a:pt x="0" y="18750"/>
                </a:lnTo>
                <a:arcTo wR="3600" hR="3600" stAng="10800000" swAng="-5400000"/>
                <a:lnTo>
                  <a:pt x="18000" y="2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Let D be the number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of crawlers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RL) maps an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URL to {0,...,D-1}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rawler x man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the URLs U s.t.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ash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U) = x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ch hash would you use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nice technique: </a:t>
            </a:r>
            <a:r>
              <a:rPr b="0" lang="en-US" sz="3200" spc="-1" strike="noStrike">
                <a:solidFill>
                  <a:srgbClr val="3333cc"/>
                </a:solidFill>
                <a:latin typeface="Lucida Sans"/>
              </a:rPr>
              <a:t>Consistent Hash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A tool for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Spide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Web Ca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outers Load Balanc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Distributed F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24360" y="1576440"/>
            <a:ext cx="5040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</a:t>
            </a:r>
            <a:r>
              <a:rPr b="0" i="1" lang="en-US" sz="1600" spc="-1" strike="noStrike">
                <a:solidFill>
                  <a:srgbClr val="ff0000"/>
                </a:solidFill>
                <a:latin typeface="Lucida Sans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ervers mapped to unit circle via hash function ID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tem K assigned to first server N such that ID(N) ≥ ID(K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crawler goes down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Sans"/>
              </a:rPr>
              <a:t>What if a new crawler appears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380988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0"/>
          <p:cNvGrpSpPr/>
          <p:nvPr/>
        </p:nvGrpSpPr>
        <p:grpSpPr>
          <a:xfrm>
            <a:off x="4143240" y="4302000"/>
            <a:ext cx="4954320" cy="2286000"/>
            <a:chOff x="4143240" y="4302000"/>
            <a:chExt cx="4954320" cy="2286000"/>
          </a:xfrm>
        </p:grpSpPr>
        <p:sp>
          <p:nvSpPr>
            <p:cNvPr id="148" name="Text Box 8"/>
            <p:cNvSpPr/>
            <p:nvPr/>
          </p:nvSpPr>
          <p:spPr>
            <a:xfrm>
              <a:off x="4318200" y="4319640"/>
              <a:ext cx="4128120" cy="22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cc"/>
                  </a:solidFill>
                  <a:latin typeface="Tahoma"/>
                </a:rPr>
                <a:t>Each server gets replicated log S times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</a:rPr>
                <a:t>[monoton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 adding a new server moves points 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 old server to the new one, only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balanc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Prob item goes to a server is ≤ O(1)/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load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ny server gets  ≤  (I/S) log S items w.h.p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[scale]</a:t>
              </a:r>
              <a:r>
                <a:rPr b="0" lang="it-IT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you can copy each server more times...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143240" y="4302000"/>
              <a:ext cx="4954320" cy="228600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ferragin@di.unipi.it</cp:lastModifiedBy>
  <cp:lastPrinted>2009-04-22T19:24:48Z</cp:lastPrinted>
  <dcterms:modified xsi:type="dcterms:W3CDTF">2016-09-27T09:13:27Z</dcterms:modified>
  <cp:revision>1235</cp:revision>
  <dc:subject/>
  <dc:title>Web Algorithmics</dc:title>
</cp:coreProperties>
</file>